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DDA5-5AC4-4910-8B0B-4DA86789A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723-347E-4D83-A381-997C3F73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B039-C47E-4B8C-94D4-F50A19472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ED4A-6DB5-465C-8A55-962EF767F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8729-1978-4680-8797-CC82F526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1B7F-C2FB-486D-810B-4BB396ED3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04D-8BBD-4922-A000-799D02DE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208-2796-4B18-867A-3DEF5AF2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27C-1AF4-4370-8BB1-6BD6E782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06E-5BA8-4C90-A904-C7D25B0A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DE89-94C9-4D15-9359-8290EE47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5B07-25E1-4941-8A9F-4C32003C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E4B9-1A26-4019-B446-DE86C685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7DE9-0A94-402E-A1BD-8757FE85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D5F8-EA5A-467C-ABA4-8FA7AFD1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D715-1EED-410E-99D3-793234BA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CC3A-B0CD-4A58-8A46-700D00E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774-A972-4298-8686-D57FC84C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8286-B6E3-416F-BD2C-32F27E6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7A3B-3457-4D06-BC2E-8FF697A7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A69B-882F-423E-B41F-8165DDD2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A273-64E7-47A0-8CE0-95725B08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1688-E561-4E95-B768-72C08BAC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5CA6-A2F9-4B48-AA20-874C7872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94BA-0421-4FBF-A3B2-1F303B32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6CF8-C7C5-4B69-A6D8-82D3C3D4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9C3D-87A2-4671-8A63-14E7F9E8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BE9A-CE0F-492B-8912-73B2B0DC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D5A-F72A-4A2E-A15B-8C75ECA3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A416-66D5-4D03-84A7-DDAB4E6F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149A-0A6A-46E1-884E-58CD201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EB6F-CF43-4EAB-AB8E-FBEB40B5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CF8E-27ED-4EBF-A3F6-907913A6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4755-AB01-4843-9D44-1D2048D6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9E49-7F55-4D30-90B5-7FC26A41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1ABA5-5A56-4BF5-A5A6-A6E2E705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308E-D5ED-45B8-B62F-1017303C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4B249-1486-435A-9485-7D1FECEA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6DEE-74E6-4534-B73D-64A219E6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3D3-CD8D-4427-9681-ACB7E7C9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211D7-F220-4732-81B2-91909A61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E150-868B-4511-845C-42DF2DBD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8359-8E80-4EEE-885B-7BB9D1A1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22180-A352-423A-99A3-4CF73CA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22C2-CC4C-42C2-AE0A-6A8B7FD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B691-0FBF-4AFC-B1D8-A98152F9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D652-769E-46C4-BB9C-8DE9F88E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4390-37A2-4FA7-AA76-84682F15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55CBF-0F95-4675-8C1D-6C12EAE8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B8616-DDCE-494C-9C38-B8E4DC06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04B-5977-4BA0-B629-E8688F6C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81AB2-946A-43FA-843A-C223A762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F6C96-781D-4B1D-8F08-6E12102A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FC65-DAB9-4B8D-8AEC-521BD6AD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3AAF-C7FB-4814-92CC-87B56245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7FB7E-ADF8-45FC-987C-BC014417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95A0D-CC83-4039-A81F-A23233CC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97E51-261B-4F2B-8A11-AB4F3659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22FC-C4A3-4CA3-BA0D-8C252E37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8EB5-52EE-4104-8CD8-3E220C7B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A9AB-AC0F-4BFA-9C41-F0F12230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93A-44EB-4C16-A913-46F449E7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9913-1380-43AC-AD48-DD302EE6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1CE-724E-4ADA-BE3F-BF7051CB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4A4-2A78-42ED-A3F1-AA0B6BDD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DEA-0D02-4E1D-A9AA-A3A58BD5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9F1B-1015-47B2-A33E-2284E8EDED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a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e9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573A-F3B1-45D0-B38D-612F3432063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a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e9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246-567D-465E-9C0C-55F85F441E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64A1-46C3-4C6C-9CDE-DA37EFA1811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acd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e9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acdd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8d89a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8d89a4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06A-CF3B-4633-B01E-A947E0E5673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3b3b"/>
                </a:solidFill>
                <a:latin typeface="Britannic Bold"/>
              </a:rPr>
              <a:t>By the </a:t>
            </a:r>
            <a:r>
              <a:rPr b="0" lang="en-US" sz="4400" spc="-1" strike="noStrike">
                <a:solidFill>
                  <a:srgbClr val="a116e0"/>
                </a:solidFill>
                <a:latin typeface="Britannic Bold"/>
              </a:rPr>
              <a:t>RED</a:t>
            </a:r>
            <a:r>
              <a:rPr b="0" lang="en-US" sz="2600" spc="-1" strike="noStrike">
                <a:solidFill>
                  <a:srgbClr val="3b3b3b"/>
                </a:solidFill>
                <a:latin typeface="Britannic Bold"/>
              </a:rPr>
              <a:t> team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3b3b"/>
                </a:solidFill>
                <a:latin typeface="Britannic Bold"/>
              </a:rPr>
              <a:t>Tyler, Nikki, Mega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What properties do the “R” groups have?</a:t>
            </a:r>
            <a:endParaRPr b="0" lang="en-US" sz="4000" spc="-1" strike="noStrike">
              <a:solidFill>
                <a:srgbClr val="3b3b3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733920" y="83772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Nonpol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Hydrophob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ush Script MT"/>
              </a:rPr>
              <a:t>CARBON AND HYDROG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Stou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oudy Stou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oudy Stout"/>
              </a:rPr>
              <a:t>CHUMPS!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378240" cy="3581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harlie-Brown-Rolling-Eyes"/>
          <p:cNvPicPr/>
          <p:nvPr/>
        </p:nvPicPr>
        <p:blipFill>
          <a:blip r:embed="rId2"/>
          <a:stretch/>
        </p:blipFill>
        <p:spPr>
          <a:xfrm>
            <a:off x="4648320" y="3581280"/>
            <a:ext cx="18288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495680" y="53352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Polar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Hydrophil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630520" cy="4267080"/>
          </a:xfrm>
          <a:prstGeom prst="rect">
            <a:avLst/>
          </a:prstGeom>
          <a:ln w="0">
            <a:noFill/>
          </a:ln>
        </p:spPr>
      </p:pic>
      <p:cxnSp>
        <p:nvCxnSpPr>
          <p:cNvPr id="242" name="AutoShape 6"/>
          <p:cNvCxnSpPr/>
          <p:nvPr/>
        </p:nvCxnSpPr>
        <p:spPr>
          <a:xfrm flipH="1" flipV="1">
            <a:off x="3047400" y="5409360"/>
            <a:ext cx="686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WordArt 7"/>
          <p:cNvSpPr txBox="1"/>
          <p:nvPr/>
        </p:nvSpPr>
        <p:spPr>
          <a:xfrm>
            <a:off x="3886200" y="5257800"/>
            <a:ext cx="25909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*tchy Qu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4" name="Picture 8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286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038480" y="9907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Pol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Hydrophil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2043000" cy="6248520"/>
          </a:xfrm>
          <a:prstGeom prst="rect">
            <a:avLst/>
          </a:prstGeom>
          <a:ln w="0">
            <a:noFill/>
          </a:ln>
        </p:spPr>
      </p:pic>
      <p:sp>
        <p:nvSpPr>
          <p:cNvPr id="247" name="Curved Up Arrow 5"/>
          <p:cNvSpPr/>
          <p:nvPr/>
        </p:nvSpPr>
        <p:spPr>
          <a:xfrm flipH="1">
            <a:off x="1752480" y="6019920"/>
            <a:ext cx="2895840" cy="685800"/>
          </a:xfrm>
          <a:custGeom>
            <a:avLst/>
            <a:gdLst>
              <a:gd name="textAreaLeft" fmla="*/ 662400 w 2895840"/>
              <a:gd name="textAreaRight" fmla="*/ 2138040 w 28958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80" hR="21600" stAng="10800000" swAng="-5400000"/>
                <a:lnTo>
                  <a:pt x="11004" y="21600"/>
                </a:lnTo>
                <a:arcTo wR="9880" hR="21600" stAng="5400000" swAng="-3537712"/>
                <a:lnTo>
                  <a:pt x="21246" y="5732"/>
                </a:lnTo>
                <a:lnTo>
                  <a:pt x="20321" y="0"/>
                </a:lnTo>
                <a:lnTo>
                  <a:pt x="18688" y="5732"/>
                </a:lnTo>
                <a:lnTo>
                  <a:pt x="19405" y="5732"/>
                </a:lnTo>
                <a:arcTo wR="9880" hR="21600" stAng="1862288" swAng="3448142"/>
                <a:lnTo>
                  <a:pt x="10442" y="21565"/>
                </a:lnTo>
                <a:arcTo wR="9880" hR="21600" stAng="5489570" swAng="5310430"/>
                <a:close/>
              </a:path>
              <a:path fill="darkenLess" w="21600" h="21600">
                <a:moveTo>
                  <a:pt x="0" y="0"/>
                </a:moveTo>
                <a:arcTo wR="9880" hR="21600" stAng="10800000" swAng="-5400000"/>
                <a:lnTo>
                  <a:pt x="11004" y="21600"/>
                </a:lnTo>
                <a:arcTo wR="9880" hR="21600" stAng="5400000" swAng="89570"/>
                <a:lnTo>
                  <a:pt x="10442" y="21565"/>
                </a:lnTo>
                <a:arcTo wR="9880" hR="21600" stAng="5489570" swAng="5310430"/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3886200" y="4876920"/>
            <a:ext cx="297180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t so B*tchy Qu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9" name="Picture 7" descr="C:\Users\David\AppData\Local\Microsoft\Windows\Temporary Internet Files\Content.IE5\1YPIF7VL\MC900432265[1].wmf"/>
          <p:cNvPicPr/>
          <p:nvPr/>
        </p:nvPicPr>
        <p:blipFill>
          <a:blip r:embed="rId2"/>
          <a:srcRect l="0" t="0" r="0" b="19577"/>
          <a:stretch/>
        </p:blipFill>
        <p:spPr>
          <a:xfrm rot="21421200">
            <a:off x="4226040" y="3247920"/>
            <a:ext cx="18828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Pol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itannic Bold"/>
              </a:rPr>
              <a:t>Hydrophil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1555920" cy="3276720"/>
          </a:xfrm>
          <a:prstGeom prst="rect">
            <a:avLst/>
          </a:prstGeom>
          <a:ln w="0">
            <a:noFill/>
          </a:ln>
        </p:spPr>
      </p:pic>
      <p:sp>
        <p:nvSpPr>
          <p:cNvPr id="252" name="Curved Up Arrow 5"/>
          <p:cNvSpPr/>
          <p:nvPr/>
        </p:nvSpPr>
        <p:spPr>
          <a:xfrm flipH="1">
            <a:off x="1447200" y="5029200"/>
            <a:ext cx="2895480" cy="685800"/>
          </a:xfrm>
          <a:custGeom>
            <a:avLst/>
            <a:gdLst>
              <a:gd name="textAreaLeft" fmla="*/ 661680 w 2895480"/>
              <a:gd name="textAreaRight" fmla="*/ 2136960 w 28954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80" hR="21600" stAng="10800000" swAng="-5400000"/>
                <a:lnTo>
                  <a:pt x="11004" y="21600"/>
                </a:lnTo>
                <a:arcTo wR="9880" hR="21600" stAng="5400000" swAng="-3537712"/>
                <a:lnTo>
                  <a:pt x="21246" y="5732"/>
                </a:lnTo>
                <a:lnTo>
                  <a:pt x="20321" y="0"/>
                </a:lnTo>
                <a:lnTo>
                  <a:pt x="18688" y="5732"/>
                </a:lnTo>
                <a:lnTo>
                  <a:pt x="19405" y="5732"/>
                </a:lnTo>
                <a:arcTo wR="9880" hR="21600" stAng="1862288" swAng="3448142"/>
                <a:lnTo>
                  <a:pt x="10442" y="21565"/>
                </a:lnTo>
                <a:arcTo wR="9880" hR="21600" stAng="5489570" swAng="5310430"/>
                <a:close/>
              </a:path>
              <a:path fill="darkenLess" w="21600" h="21600">
                <a:moveTo>
                  <a:pt x="0" y="0"/>
                </a:moveTo>
                <a:arcTo wR="9880" hR="21600" stAng="10800000" swAng="-5400000"/>
                <a:lnTo>
                  <a:pt x="11004" y="21600"/>
                </a:lnTo>
                <a:arcTo wR="9880" hR="21600" stAng="5400000" swAng="89570"/>
                <a:lnTo>
                  <a:pt x="10442" y="21565"/>
                </a:lnTo>
                <a:arcTo wR="9880" hR="21600" stAng="5489570" swAng="5310430"/>
                <a:close/>
              </a:path>
            </a:pathLst>
          </a:custGeom>
          <a:solidFill>
            <a:srgbClr val="800080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3200400" y="3657600"/>
            <a:ext cx="259092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*tchy Qu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248520" y="3352680"/>
            <a:ext cx="22860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9:00Z</dcterms:created>
  <dc:creator>vinoscience</dc:creator>
  <dc:description/>
  <dc:language>en-US</dc:language>
  <cp:lastModifiedBy>xpstudent</cp:lastModifiedBy>
  <dcterms:modified xsi:type="dcterms:W3CDTF">2010-09-23T14:23:09Z</dcterms:modified>
  <cp:revision>6</cp:revision>
  <dc:subject/>
  <dc:title>What properties do the “R” groups have?</dc:title>
</cp:coreProperties>
</file>